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72D-33E8-45D0-8EDA-F446E6F4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7BC-3131-41BC-8D3A-9E8CFB87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ECE-8A8D-4F69-95E8-278CC1D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7C7-AA35-4E2A-A544-50FE4984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10D0-5BAC-4B73-9892-023B5520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866E-945D-42D4-9069-74EB674B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2F5-C969-47C1-8244-E0263E15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13E3-45FC-4A33-8F34-D00B155E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B9F-0A64-4BF2-8DA9-88C29890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D0B-753C-45F7-8547-A8543056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D45C-ADE0-4C54-865D-6F8E655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2EF-7FD3-47F0-91CD-65B98A92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7351-4CC9-4E84-8C0D-35C4C3CB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D6B-B17A-45A0-9AC1-CE7D0F2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005-2D11-459B-A9A3-28DA350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3509-D49A-410A-8107-EAAD3793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418D-B8F3-4C63-A53F-32941BF5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646-FAB3-4125-83A9-0A62725D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940-4019-4E3E-9711-A7437B10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C5A-A2E1-4DB1-BD04-08A8F6C0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6A8-49DD-4B76-B03F-A9F2BC13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A18-A1CF-4506-8B5E-0FA77DC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9E4-4A15-4DEE-9230-03813B3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B41-4DF0-456D-BA86-466815B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FAA6-8F62-4545-BD64-E2D09A28B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8134-821A-425A-B779-C5FF0D616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2971800"/>
            <a:ext cx="883908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AT THE TE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552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 Key Wor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ION - stories or pa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RRATOR - the person telling the s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AKER - the person speaking in po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LIKELY - what will probably happ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SIMILAR - most ali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TITLES/SUBHEADINGS - titles for different sections in the selection, under the main 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ECT OF - impression of, cause of, the influen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RPOSE STATEMENT - introduction at top of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ELY - almost or just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LY - likely to happen based on evidence in the s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ZAS - verses in po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ALICS - special slanted print that draws our atten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ENTHESES - special punctuation marks ( ) used to separate or notate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ALOGY - comparing of relatio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NE - the feeling the author created in the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LOGUE - the parts that characters speak in a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LLUSTRATIONS - the pictures or photos in a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RE - the type of writing a selection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ck out the key words by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MMING: Read pieces of the text: dates, names, and places; review graphs, tables, and charts. A quick check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NING: Find a particular answer. Scanning involves moving your eyes quickly down the page seeking specific words and phrases to help you answer a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highlighter or underline when you read to save time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question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entir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are several questions about a reading passage or chart, look for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clu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ther questions that will help you with those items about which you are uns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scratch paper on a math test, double check to make sure that you have copied the problem correctly from the test bookl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n doubt, start from scr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 out your hands, neck arms and sit back in your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ince yourself you are rela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fore the test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your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any last minute concerns with your par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,SLEEP,SLEE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2857680" cy="1895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15000" y="3886200"/>
            <a:ext cx="23623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ning of Tes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your day with a good breakf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banana gives an instant, sustained and substantial boost of energ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the! Oxygen to your brain will help you th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Positive! “I can do thi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what you will do to relax when you get home from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POINT IN WORRY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e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the directions careful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the question and </a:t>
            </a:r>
            <a:r>
              <a:rPr b="0" i="1" lang="en-US" sz="4800" spc="-1" strike="noStrike">
                <a:solidFill>
                  <a:srgbClr val="cc0066"/>
                </a:solidFill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swer choices before marking any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sure you understand what the question is ask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sure you are responding to the question that is being ask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 P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’t spend too much time on any one question. Do your best and then move on. ½ in ½ ru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 the easiest questions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stress, increases conf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those that you skip on the test book and go back to those question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ok for the WRONG answ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have been through all of the answer choi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liminate choices that you know are incorr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can eliminate two wrong answers, your chance of choosing the right answer is great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hange your answers unless you are very uncertain about your first answer cho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nswer every question. Make the most intelligent gues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guess blindly, but if you have time to think about the best answer choice, make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BEST OVERALL answer when more than one choice seems correc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ishing up…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finish early, check to make sure you have answered all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that means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real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and check your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key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ra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the question that will help you choose the correc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/>
  <dc:description/>
  <cp:keywords/>
  <dc:language>en-US</dc:language>
  <cp:lastModifiedBy> John Doe</cp:lastModifiedBy>
  <cp:lastPrinted>2011-05-16T11:59:02Z</cp:lastPrinted>
  <dcterms:modified xsi:type="dcterms:W3CDTF">2011-05-16T12:29:40Z</dcterms:modified>
  <cp:revision>48</cp:revision>
  <dc:subject/>
  <dc:title> BEAT THE TE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